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493D-4566-48C0-8778-A077AC6AA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B973-0A4D-4560-8FC7-F9EC93210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833F-AA0C-4B5C-B334-889861F14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0BD1-FF34-4642-A058-62CC9AA21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D4AD-F687-4CBD-B054-504C46491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FCA3-5D8F-4FED-9C53-D03AF5002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C366-ED39-4A9F-ADEB-05BFEB18C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96E4-466B-4B7F-9CBC-ED6E6A96D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E69A-3C32-4498-877E-C9373FAF9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90E9-5BE3-4398-B9FD-2B33C82A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7D23-AE1B-4FB3-BE01-F3B8850F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D1F3-A33A-460B-9AC6-E02FBDCE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1F526-6633-4706-931E-07A34A790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ckwell Condensed"/>
              </a:rPr>
              <a:t>Las Comid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4724280"/>
            <a:ext cx="76201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Rockwell Condensed"/>
              </a:rPr>
              <a:t>Samant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 Condensed"/>
              </a:rPr>
              <a:t>                                               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 Condensed"/>
              </a:rPr>
              <a:t>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Rockwell Condensed"/>
              </a:rPr>
              <a:t>Gre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French Script MT"/>
              </a:rPr>
              <a:t>El Desayu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067680" y="6598800"/>
            <a:ext cx="763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143000" y="1371600"/>
            <a:ext cx="2209680" cy="2066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371600" y="762120"/>
            <a:ext cx="175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French Script MT"/>
              </a:rPr>
              <a:t>El Toc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33520" y="4724280"/>
            <a:ext cx="2600280" cy="17528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-682200" y="3961440"/>
            <a:ext cx="541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French Script MT"/>
              </a:rPr>
              <a:t>La Crisis Del Pan Cina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5867280" y="1295280"/>
            <a:ext cx="1847880" cy="2467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934320" y="53352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rench Script MT"/>
              </a:rPr>
              <a:t>La Lec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4572000" y="4191120"/>
            <a:ext cx="2390760" cy="1914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400800" y="44956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French Script MT"/>
              </a:rPr>
              <a:t>      </a:t>
            </a:r>
            <a:r>
              <a:rPr b="1" lang="es-ES" sz="3200" spc="-1" strike="noStrike">
                <a:solidFill>
                  <a:srgbClr val="000000"/>
                </a:solidFill>
                <a:latin typeface="French Script MT"/>
              </a:rPr>
              <a:t>Las Fre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Bodoni PosterCompressed"/>
              </a:rPr>
              <a:t>El  Almuerz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067680" y="6400800"/>
            <a:ext cx="7632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57200" y="914400"/>
            <a:ext cx="1589040" cy="1771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-145080" y="259200"/>
            <a:ext cx="27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odoni PosterCompressed"/>
              </a:rPr>
              <a:t>Las  Papas  Fri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80880" y="3200400"/>
            <a:ext cx="2667240" cy="18525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178640" y="513612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odoni PosterCompressed"/>
              </a:rPr>
              <a:t>El  Su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6400800" y="106668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21800" y="3047400"/>
            <a:ext cx="197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doni PosterCompressed"/>
              </a:rPr>
              <a:t>La  Sand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74760" y="5593320"/>
            <a:ext cx="331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odoni PosterCompressed"/>
              </a:rPr>
              <a:t>El  Zumo de  Nar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4267080" y="3352680"/>
            <a:ext cx="220032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Gill Sans MT Ext Condensed Bold"/>
              </a:rPr>
              <a:t>La Ce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067680" y="6629040"/>
            <a:ext cx="76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14400" y="335520"/>
            <a:ext cx="137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ill Sans MT Ext Condensed Bold"/>
              </a:rPr>
              <a:t>El Po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6781680" y="304920"/>
            <a:ext cx="1866960" cy="24476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957720" y="2818800"/>
            <a:ext cx="149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ill Sans MT Ext Condensed Bold"/>
              </a:rPr>
              <a:t>El Ag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838080" y="342900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-933480" y="5714280"/>
            <a:ext cx="413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ill Sans MT Ext Condensed Bold"/>
              </a:rPr>
              <a:t>Las Zanahorias </a:t>
            </a:r>
            <a:r>
              <a:rPr b="1" lang="es-ES" sz="2800" spc="-1" strike="noStrike">
                <a:solidFill>
                  <a:srgbClr val="ffffff"/>
                </a:solidFill>
                <a:latin typeface="Gill Sans MT Ext Condensed Bold"/>
              </a:rPr>
              <a:t>Coc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4876920" y="2971800"/>
            <a:ext cx="1542960" cy="29527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116400" y="3657600"/>
            <a:ext cx="2291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ill Sans MT Ext Condensed Bold"/>
              </a:rPr>
              <a:t>El Ques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ill Sans MT Ext Condensed Bold"/>
              </a:rPr>
              <a:t>Ched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ill Sans MT Ext Condensed Bold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Gill Sans MT Ext Condensed Bold"/>
              </a:rPr>
              <a:t>Blan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ill Sans MT Ext Condensed Bold"/>
              </a:rPr>
              <a:t>Macarr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ill Sans MT Ext Condensed Bold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Gill Sans MT Ext Condensed Bold"/>
              </a:rPr>
              <a:t>Con Que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 Meri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067680" y="6523200"/>
            <a:ext cx="7632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52280" y="1371600"/>
            <a:ext cx="2590920" cy="15127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62120" y="312408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os Dor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7162920" y="685800"/>
            <a:ext cx="1676160" cy="27338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705720" y="365760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Caja de Ju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533520" y="3809880"/>
            <a:ext cx="2466720" cy="23241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762120" y="617220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l Helado Cholco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4419720" y="4114800"/>
            <a:ext cx="2504880" cy="18194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962520" y="601992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Cookie Cholcolatec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5:27:58Z</dcterms:created>
  <dc:creator>greenesam</dc:creator>
  <dc:description/>
  <dc:language>en-US</dc:language>
  <cp:lastModifiedBy>greenesam</cp:lastModifiedBy>
  <dcterms:modified xsi:type="dcterms:W3CDTF">2012-04-05T13:55:03Z</dcterms:modified>
  <cp:revision>5</cp:revision>
  <dc:subject/>
  <dc:title>Las Comidas</dc:title>
</cp:coreProperties>
</file>